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3A451-971C-46AC-AC18-83F0EBAF4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4F7ED-4F43-4C56-A251-8A1D731AD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F50C8-09B2-4EBB-A494-E467001F9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D0DD9-9017-426D-9355-AC0FFA6B0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757CB-A860-4AA8-93CF-C70671F3D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C56E5-1716-4472-AE54-D26485541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94C18-32D5-492E-B0BE-64923E772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3397D-F0D2-462C-9B71-4876C5842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699B1-2ACB-4531-83C8-8BDDEDA59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466C5-9738-4B76-9F5D-BD410C6A9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E2E0B-4009-4572-A274-C3DE10159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28CA6-DB7B-4725-906E-2423E975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4B749-DB70-43A8-B856-9AB7AF72E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9048B-F41E-4F34-9D32-FD68145B5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4E7A6-9328-404E-B1A6-339318FD0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0D670-BE37-4B5A-A500-AFD65B83D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FADD6-47A5-4F05-8371-9A8C94A5F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C36DA0-D096-4CFB-A1E8-2A46CD657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21A5C-0AA1-4D74-BBD3-749AA0EB3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DA328-20FB-4CEE-AD93-3250668BC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342DF-1CE6-4BAC-BF4E-096A7A9097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8B7D3-AF87-4F9E-89F7-6D639EE6C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858BB-BF35-4327-9984-FAADF75A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80593-A963-4F50-B04C-C7413B51F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EF819-E2D9-4E29-9851-1F5848EEC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3219F-8A60-4975-A573-DDA4BE7C3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C4FC8-CEB7-4631-AF72-202876DB7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69CFE-1DD6-4DB3-84B6-58A7D9ECD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00971-C089-43CA-8859-AF478B4FF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90BDF-87A8-4FC5-A7BC-A61695F5F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EEA9EF-91FE-4F52-82B2-2B43F7BE2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75BFA-7773-401E-BC45-AAA04D000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2239B-C765-4AA3-ADFD-603B78E7A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8E4E-C39C-45CD-A410-963B52CB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941EE-5FAD-450E-8CE8-AD346A755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64811-455B-4968-87C1-4D61368E4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D8CD4-4860-45AE-BC3A-D3A09997B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3953A-6591-41CA-89CF-A82B48072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C7060-7B59-42F3-A5C2-D105BD2A9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DE169-FEB7-4799-89E9-AE783362C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A6718-0CA6-48FD-953E-50112C620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9D70E2-ED45-46CE-9F3D-9D9AA42503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CD363-1917-462E-AEAB-580ED1581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F16B-5F68-4743-8BE3-313C1657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A312-D6B4-43C0-95B6-F8C3C0084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0A8E-1E71-4C3E-BFEE-C0F4C4DA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0B6B-BFE6-4F92-B0C5-E417BF52B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908A-F2ED-4ECC-813E-A264B0563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874A-4686-4820-9662-DF0DB5A4F89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Straight Connector 18"/>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225B-A922-4508-9204-5452E242DB80}"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3031-B826-4677-B4BD-A2A298907ADB}"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EEBF-B0F2-448A-961B-1CEB0707C3B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dx.doi.org/10.1038/nclimate3361"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Pakistan: Building Climate Resilience</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rebuchet MS"/>
              </a:rPr>
              <a:t>Kulsum Ahmed</a:t>
            </a:r>
            <a:endParaRPr b="0" lang="en-US" sz="18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rebuchet MS"/>
              </a:rPr>
              <a:t>Presentation for the National Planning Commission</a:t>
            </a:r>
            <a:endParaRPr b="0" lang="en-US" sz="18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rebuchet MS"/>
              </a:rPr>
              <a:t>Islamabad, February 28, 2018</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What we have already</a:t>
            </a:r>
            <a:r>
              <a:rPr b="0" lang="is-IS" sz="3600" spc="-1" strike="noStrike">
                <a:solidFill>
                  <a:srgbClr val="90c226"/>
                </a:solidFill>
                <a:latin typeface="Trebuchet MS"/>
              </a:rPr>
              <a:t>….</a:t>
            </a:r>
            <a:br>
              <a:rPr sz="3600"/>
            </a:br>
            <a:endParaRPr b="0" lang="en-US" sz="3600" spc="-1" strike="noStrike">
              <a:solidFill>
                <a:srgbClr val="90c226"/>
              </a:solidFill>
              <a:latin typeface="Trebuchet MS"/>
            </a:endParaRPr>
          </a:p>
        </p:txBody>
      </p:sp>
      <p:sp>
        <p:nvSpPr>
          <p:cNvPr id="231" name=""/>
          <p:cNvSpPr txBox="1"/>
          <p:nvPr/>
        </p:nvSpPr>
        <p:spPr>
          <a:xfrm>
            <a:off x="677520" y="2160360"/>
            <a:ext cx="8596440" cy="3881160"/>
          </a:xfrm>
          <a:prstGeom prst="rect">
            <a:avLst/>
          </a:prstGeom>
          <a:noFill/>
          <a:ln w="0">
            <a:noFill/>
          </a:ln>
        </p:spPr>
        <p:txBody>
          <a:bodyPr anchor="t">
            <a:normAutofit fontScale="98000"/>
          </a:bodyPr>
          <a:p>
            <a:pPr marL="335880" indent="-3358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xternal facilitators</a:t>
            </a:r>
            <a:endParaRPr b="0" lang="en-US" sz="17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UNFCCC and the Paris Agreement</a:t>
            </a:r>
            <a:endParaRPr b="0" lang="en-US" sz="15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Sustainable Development Goals</a:t>
            </a:r>
            <a:endParaRPr b="0" lang="en-US" sz="15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Financial investors focus on climate risk</a:t>
            </a:r>
            <a:endParaRPr b="0" lang="en-US" sz="15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Socially responsible investors</a:t>
            </a:r>
            <a:endParaRPr b="0" lang="en-US" sz="1500" spc="-1" strike="noStrike">
              <a:solidFill>
                <a:srgbClr val="404040"/>
              </a:solidFill>
              <a:latin typeface="Trebuchet MS"/>
            </a:endParaRPr>
          </a:p>
          <a:p>
            <a:pPr marL="335880" indent="-3358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National drivers</a:t>
            </a:r>
            <a:endParaRPr b="0" lang="en-US" sz="17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SBP Green Banking Guidelines</a:t>
            </a:r>
            <a:endParaRPr b="0" lang="en-US" sz="15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PBC’s CERB wanting to contribute to SDGs</a:t>
            </a:r>
            <a:endParaRPr b="0" lang="en-US" sz="15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Existing water and energy crises require efficiency focus</a:t>
            </a:r>
            <a:endParaRPr b="0" lang="en-US" sz="1500" spc="-1" strike="noStrike">
              <a:solidFill>
                <a:srgbClr val="404040"/>
              </a:solidFill>
              <a:latin typeface="Trebuchet MS"/>
            </a:endParaRPr>
          </a:p>
          <a:p>
            <a:pPr marL="335880" indent="-3358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National capacity </a:t>
            </a:r>
            <a:endParaRPr b="0" lang="en-US" sz="17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Environmental science/engineering degrees offered in 15 Higher Education Institutions </a:t>
            </a:r>
            <a:endParaRPr b="0" lang="en-US" sz="1500" spc="-1" strike="noStrike">
              <a:solidFill>
                <a:srgbClr val="404040"/>
              </a:solidFill>
              <a:latin typeface="Trebuchet MS"/>
            </a:endParaRPr>
          </a:p>
          <a:p>
            <a:pPr lvl="1" marL="727920" indent="-28008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NDMA</a:t>
            </a: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ut what is still missing</a:t>
            </a:r>
            <a:r>
              <a:rPr b="0" lang="is-IS" sz="3600" spc="-1" strike="noStrike">
                <a:solidFill>
                  <a:srgbClr val="90c226"/>
                </a:solidFill>
                <a:latin typeface="Trebuchet MS"/>
              </a:rPr>
              <a:t>….</a:t>
            </a:r>
            <a:endParaRPr b="0" lang="en-US" sz="3600" spc="-1" strike="noStrike">
              <a:solidFill>
                <a:srgbClr val="90c226"/>
              </a:solidFill>
              <a:latin typeface="Trebuchet MS"/>
            </a:endParaRPr>
          </a:p>
        </p:txBody>
      </p:sp>
      <p:sp>
        <p:nvSpPr>
          <p:cNvPr id="233"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road knowledge generation and sharing of climate information/dat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eople with sufficient understanding of climate impac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ducation and training to solve real world problems (rather than focus on theor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aking advantage of Pakistan’s ecosystem diversity to optimize climate solution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tecting the poor from climate impac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evelopment of green business/tech start up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nanc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D a way of measuring progress towards our goal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overnment’s role in generating climate solutions 1</a:t>
            </a:r>
            <a:endParaRPr b="0" lang="en-US" sz="3600" spc="-1" strike="noStrike">
              <a:solidFill>
                <a:srgbClr val="90c226"/>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Knowledge sharing</a:t>
            </a:r>
            <a:endParaRPr b="0" lang="en-US" sz="17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Platforms for sharing critical climate related information: extreme heat, heavy rainfall, glacier melt, etc. </a:t>
            </a:r>
            <a:endParaRPr b="0" lang="en-US" sz="15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NDMA successful example (through cell phones); agricultural extension? </a:t>
            </a:r>
            <a:endParaRPr b="0" lang="en-US" sz="15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Will facilitate implementation of Green Banking Guidelines and general public awareness</a:t>
            </a:r>
            <a:endParaRPr b="0" lang="en-US" sz="15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Monitoring progress through indicators of progress towards goals</a:t>
            </a:r>
            <a:endParaRPr b="0" lang="en-US" sz="17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Efficiency of resource use (air, water)</a:t>
            </a:r>
            <a:endParaRPr b="0" lang="en-US" sz="15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Local pollution</a:t>
            </a:r>
            <a:endParaRPr b="0" lang="en-US" sz="15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GHG per capita</a:t>
            </a:r>
            <a:endParaRPr b="0" lang="en-US" sz="15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Ability to cope with extreme weather</a:t>
            </a:r>
            <a:endParaRPr b="0" lang="en-US" sz="1500" spc="-1" strike="noStrike">
              <a:solidFill>
                <a:srgbClr val="404040"/>
              </a:solidFill>
              <a:latin typeface="Trebuchet MS"/>
            </a:endParaRPr>
          </a:p>
          <a:p>
            <a:pPr lvl="1" marL="720720" indent="-2772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Economic losses from extreme weather events</a:t>
            </a:r>
            <a:endParaRPr b="0" lang="en-US" sz="15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overnment’s role in generating climate solutions 2</a:t>
            </a:r>
            <a:endParaRPr b="0" lang="en-US" sz="3600" spc="-1" strike="noStrike">
              <a:solidFill>
                <a:srgbClr val="90c226"/>
              </a:solidFill>
              <a:latin typeface="Trebuchet MS"/>
            </a:endParaRPr>
          </a:p>
        </p:txBody>
      </p:sp>
      <p:sp>
        <p:nvSpPr>
          <p:cNvPr id="237"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rengthen capacity for climate assessment and solution generation: science, modelling, evidenced-based policy formulation.</a:t>
            </a:r>
            <a:endParaRPr b="0" lang="en-US" sz="18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s-IS" sz="1600" spc="-1" strike="noStrike">
                <a:solidFill>
                  <a:srgbClr val="404040"/>
                </a:solidFill>
                <a:latin typeface="Trebuchet MS"/>
              </a:rPr>
              <a:t>Tie up Pakistani universities with srong climate programs in universities and centers abroad (MIT, Berkeley, Grantham, Potsdam, JRC, Tsinghua, etc.)</a:t>
            </a:r>
            <a:endParaRPr b="0" lang="en-US" sz="16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courage private sector to develop climate solutions</a:t>
            </a:r>
            <a:endParaRPr b="0" lang="en-US" sz="18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Development of green start-ups/businesses (Hackathons, public accelerators)</a:t>
            </a:r>
            <a:endParaRPr b="0" lang="en-US" sz="1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Resource in efficiency use – linkage with SDGs and GBG</a:t>
            </a:r>
            <a:endParaRPr b="0" lang="en-US" sz="16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acilitate provincial action on climate solutions</a:t>
            </a:r>
            <a:endParaRPr b="0" lang="en-US" sz="18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Use diversity in ecosystems as an advantage by creating a forum for knowledge exchange across provinces, perhaps using Council of Common Interest  (e.g. WB’s Climate Adaptation and Mitigation Program for the Aral Sea Basin model). Start with forests and land management perhaps</a:t>
            </a:r>
            <a:r>
              <a:rPr b="0" lang="is-IS" sz="1600" spc="-1" strike="noStrike">
                <a:solidFill>
                  <a:srgbClr val="404040"/>
                </a:solidFill>
                <a:latin typeface="Trebuchet MS"/>
              </a:rPr>
              <a:t>..</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overnment’s role in generating climate solutions 3</a:t>
            </a:r>
            <a:endParaRPr b="0" lang="en-US" sz="36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Government action to help the poor who are most affected (WB’s </a:t>
            </a:r>
            <a:r>
              <a:rPr b="0" i="1" lang="en-US" sz="1700" spc="-1" strike="noStrike">
                <a:solidFill>
                  <a:srgbClr val="404040"/>
                </a:solidFill>
                <a:latin typeface="Trebuchet MS"/>
              </a:rPr>
              <a:t>Shockwaves</a:t>
            </a:r>
            <a:r>
              <a:rPr b="0" lang="en-US" sz="1700" spc="-1" strike="noStrike">
                <a:solidFill>
                  <a:srgbClr val="404040"/>
                </a:solidFill>
                <a:latin typeface="Trebuchet MS"/>
              </a:rPr>
              <a:t>)</a:t>
            </a:r>
            <a:endParaRPr b="0" lang="en-US" sz="17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Need for increased climate awareness amongst rural poor e.g. see approach in WB Tajikistan Environment Land Management and Rural Livelihoods Project perhaps adapted to existing national programs</a:t>
            </a:r>
            <a:endParaRPr b="0" lang="en-US" sz="15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Need for social safety nets for rural poor e.g. incorporate climate within existing cash transfer schemes, such Benazir Income Support Program</a:t>
            </a:r>
            <a:endParaRPr b="0" lang="en-US" sz="15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Mitigate risk through insurance schemes particularly for poor farmers through participation in IFC’s Global Index Reinsurance Facility, mediated through existing microfinance institutions</a:t>
            </a:r>
            <a:endParaRPr b="0" lang="en-US" sz="15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Government action: strategic policy and project support</a:t>
            </a:r>
            <a:endParaRPr b="0" lang="en-US" sz="17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Climate-integrated strategies (perhaps using policy strategic environmental assessment approach) at country level and in key sectors: energy, agriculture and water. Also encourage cities.</a:t>
            </a:r>
            <a:endParaRPr b="0" lang="en-US" sz="15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a:t>
            </a:r>
            <a:r>
              <a:rPr b="0" lang="en-US" sz="1500" spc="-1" strike="noStrike">
                <a:solidFill>
                  <a:srgbClr val="404040"/>
                </a:solidFill>
                <a:latin typeface="Trebuchet MS"/>
              </a:rPr>
              <a:t>Signature” projects to lead way: (jointly with provinces) LFG to energy from landfills?</a:t>
            </a: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Financing</a:t>
            </a:r>
            <a:endParaRPr b="0" lang="en-US" sz="3600" spc="-1" strike="noStrike">
              <a:solidFill>
                <a:srgbClr val="90c226"/>
              </a:solidFill>
              <a:latin typeface="Trebuchet MS"/>
            </a:endParaRPr>
          </a:p>
        </p:txBody>
      </p:sp>
      <p:sp>
        <p:nvSpPr>
          <p:cNvPr id="241"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xternal</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Carbon funds (now closed)</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Climate Investment Funds (MFIs)</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Green Climate Fund</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Small grants, often city-based (Bloomberg, Rockerfeller, etc.)</a:t>
            </a:r>
            <a:endParaRPr b="0" lang="en-US" sz="1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nal</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National Climate Fund? (with carbon pollution tax, e.g. on high sulfur fuel oil)</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Commercial finance (e.g. IFC’s sustainable energy financing gives step downs in interest already and structure perhaps could be take further by giving premium for active climate risk management)</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1460520"/>
            <a:ext cx="10515600" cy="1271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hank You!</a:t>
            </a:r>
            <a:endParaRPr b="0" lang="en-US" sz="3600" spc="-1" strike="noStrike">
              <a:solidFill>
                <a:srgbClr val="90c226"/>
              </a:solidFill>
              <a:latin typeface="Trebuchet MS"/>
            </a:endParaRPr>
          </a:p>
        </p:txBody>
      </p:sp>
      <p:sp>
        <p:nvSpPr>
          <p:cNvPr id="243" name=""/>
          <p:cNvSpPr txBox="1"/>
          <p:nvPr/>
        </p:nvSpPr>
        <p:spPr>
          <a:xfrm>
            <a:off x="838080" y="3713040"/>
            <a:ext cx="10515600" cy="24638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ontact: kulsum.ka.ahmed@gmail.com</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akistan at 70 years: Climate and Environment</a:t>
            </a:r>
            <a:endParaRPr b="0" lang="en-US" sz="3600" spc="-1" strike="noStrike">
              <a:solidFill>
                <a:srgbClr val="90c226"/>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at does the data show?</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 menu of possible approach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uilding climate resilience: process and prioritizatio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Government’s role in generating climate solution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nanc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ummar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akistan: Climate data</a:t>
            </a:r>
            <a:endParaRPr b="0" lang="en-US" sz="3600" spc="-1" strike="noStrike">
              <a:solidFill>
                <a:srgbClr val="90c226"/>
              </a:solidFill>
              <a:latin typeface="Trebuchet MS"/>
            </a:endParaRPr>
          </a:p>
        </p:txBody>
      </p:sp>
      <p:sp>
        <p:nvSpPr>
          <p:cNvPr id="217"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O2 emissions per capita are low, but will increase with coal power </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0.896 metric tons /capita (2014) vs </a:t>
            </a:r>
            <a:endParaRPr b="0" lang="en-US" sz="16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rebuchet MS"/>
              </a:rPr>
              <a:t>1.4 metric tons/capita for South Asian countries group </a:t>
            </a:r>
            <a:endParaRPr b="0" lang="en-US" sz="1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rebuchet MS"/>
              </a:rPr>
              <a:t>1.4 metric tons/capita for lower middle-income countries group</a:t>
            </a:r>
            <a:endParaRPr b="0" lang="en-US" sz="1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rebuchet MS"/>
              </a:rPr>
              <a:t>4.97 metric tons/capita for world</a:t>
            </a:r>
            <a:endParaRPr b="0" lang="en-US" sz="1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igh vulnerability to climate change impacts</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Among top ten most climate-affected countries of the world (Germanwatch’s Global Climate Risk Index 2015)</a:t>
            </a:r>
            <a:endParaRPr b="0" lang="en-US" sz="1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akistan: Some Climate Impacts</a:t>
            </a:r>
            <a:endParaRPr b="0" lang="en-US" sz="3600" spc="-1" strike="noStrike">
              <a:solidFill>
                <a:srgbClr val="90c226"/>
              </a:solidFill>
              <a:latin typeface="Trebuchet MS"/>
            </a:endParaRPr>
          </a:p>
        </p:txBody>
      </p:sp>
      <p:sp>
        <p:nvSpPr>
          <p:cNvPr id="219" name=""/>
          <p:cNvSpPr txBox="1"/>
          <p:nvPr/>
        </p:nvSpPr>
        <p:spPr>
          <a:xfrm>
            <a:off x="677520" y="2160360"/>
            <a:ext cx="8596440" cy="3881160"/>
          </a:xfrm>
          <a:prstGeom prst="rect">
            <a:avLst/>
          </a:prstGeom>
          <a:noFill/>
          <a:ln w="0">
            <a:noFill/>
          </a:ln>
        </p:spPr>
        <p:txBody>
          <a:bodyPr anchor="t">
            <a:normAutofit fontScale="97000"/>
          </a:bodyPr>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Major floods in 2010 (20% land area under water) and 2012</a:t>
            </a:r>
            <a:endParaRPr b="0" lang="en-US" sz="1700" spc="-1" strike="noStrike">
              <a:solidFill>
                <a:srgbClr val="404040"/>
              </a:solidFill>
              <a:latin typeface="Trebuchet MS"/>
            </a:endParaRPr>
          </a:p>
          <a:p>
            <a:pPr lvl="1" marL="720720" indent="-27720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The last five floods (2010-2014) have resulted in monetary losses of over US$ 18 billion with 38.12 million people affected, 3.45 million houses damaged and 10.63 million acres of crops destroyed (INDC)</a:t>
            </a:r>
            <a:endParaRPr b="0" lang="en-US" sz="1500" spc="-1" strike="noStrike">
              <a:solidFill>
                <a:srgbClr val="404040"/>
              </a:solidFill>
              <a:latin typeface="Trebuchet MS"/>
            </a:endParaRPr>
          </a:p>
          <a:p>
            <a:pPr lvl="1" marL="720720" indent="-27720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2010 floods in Pakistan affected 4.5 million workers, two-thirds of whom were employed in agriculture, and over 70 percent of farmers lost more than half of their expected income (FAO) </a:t>
            </a:r>
            <a:endParaRPr b="0" lang="en-US" sz="1500" spc="-1" strike="noStrike">
              <a:solidFill>
                <a:srgbClr val="404040"/>
              </a:solidFill>
              <a:latin typeface="Trebuchet MS"/>
            </a:endParaRPr>
          </a:p>
          <a:p>
            <a:pPr lvl="1" marL="720720" indent="-27720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Agricultural sector growth dropped from 3.5% to 0.2% between 2009 and 2010 due to 2010 flood (FAO)</a:t>
            </a:r>
            <a:endParaRPr b="0" lang="en-US" sz="15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33 extreme weather events between 1996-2015 (Germanwatch’s Climate Risk Index 2015)</a:t>
            </a:r>
            <a:endParaRPr b="0" lang="en-US" sz="1700" spc="-1" strike="noStrike">
              <a:solidFill>
                <a:srgbClr val="404040"/>
              </a:solidFill>
              <a:latin typeface="Trebuchet MS"/>
            </a:endParaRPr>
          </a:p>
          <a:p>
            <a:pPr lvl="1" marL="720720" indent="-27720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404040"/>
                </a:solidFill>
                <a:latin typeface="Trebuchet MS"/>
              </a:rPr>
              <a:t> </a:t>
            </a:r>
            <a:r>
              <a:rPr b="0" lang="en-US" sz="1500" spc="-1" strike="noStrike">
                <a:solidFill>
                  <a:srgbClr val="404040"/>
                </a:solidFill>
                <a:latin typeface="Trebuchet MS"/>
              </a:rPr>
              <a:t>Extreme climate events between 1994 - 2013 have resulted in an average annual economic loss of almost US$ 4 billion (NDMA) </a:t>
            </a:r>
            <a:endParaRPr b="0" lang="en-US" sz="15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200 people died in Karachi during unprecedented heat wave in 2015 (Pak INDC)</a:t>
            </a:r>
            <a:endParaRPr b="0" lang="en-US" sz="17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lvl="1" marL="720720" indent="-27720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akistan: Some Climate Projections </a:t>
            </a:r>
            <a:endParaRPr b="0" lang="en-US" sz="3600" spc="-1" strike="noStrike">
              <a:solidFill>
                <a:srgbClr val="90c226"/>
              </a:solidFill>
              <a:latin typeface="Trebuchet MS"/>
            </a:endParaRPr>
          </a:p>
        </p:txBody>
      </p:sp>
      <p:sp>
        <p:nvSpPr>
          <p:cNvPr id="221" name=""/>
          <p:cNvSpPr txBox="1"/>
          <p:nvPr/>
        </p:nvSpPr>
        <p:spPr>
          <a:xfrm>
            <a:off x="677520" y="2160360"/>
            <a:ext cx="859644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Floods and droughts, but variation in glacier melt and Karakoram anomaly </a:t>
            </a:r>
            <a:r>
              <a:rPr b="0" lang="en-US" sz="1600" spc="-1" strike="noStrike">
                <a:solidFill>
                  <a:srgbClr val="404040"/>
                </a:solidFill>
                <a:latin typeface="Trebuchet MS"/>
              </a:rPr>
              <a:t>(Nathan Forsythe, Hayley J. Fowler, Xiao-Feng Li, Stephen Blenkinsop, David Pritchard. </a:t>
            </a:r>
            <a:r>
              <a:rPr b="1" lang="en-US" sz="1600" spc="-1" strike="noStrike">
                <a:solidFill>
                  <a:srgbClr val="404040"/>
                </a:solidFill>
                <a:latin typeface="Trebuchet MS"/>
              </a:rPr>
              <a:t>Karakoram temperature and glacial melt driven by regional atmospheric circulation variability</a:t>
            </a:r>
            <a:r>
              <a:rPr b="0" lang="en-US" sz="1600" spc="-1" strike="noStrike">
                <a:solidFill>
                  <a:srgbClr val="404040"/>
                </a:solidFill>
                <a:latin typeface="Trebuchet MS"/>
              </a:rPr>
              <a:t>. </a:t>
            </a:r>
            <a:r>
              <a:rPr b="0" i="1" lang="en-US" sz="1600" spc="-1" strike="noStrike">
                <a:solidFill>
                  <a:srgbClr val="404040"/>
                </a:solidFill>
                <a:latin typeface="Trebuchet MS"/>
              </a:rPr>
              <a:t>Nature Climate Change</a:t>
            </a:r>
            <a:r>
              <a:rPr b="0" lang="en-US" sz="1600" spc="-1" strike="noStrike">
                <a:solidFill>
                  <a:srgbClr val="404040"/>
                </a:solidFill>
                <a:latin typeface="Trebuchet MS"/>
              </a:rPr>
              <a:t>, 2017; DOI: </a:t>
            </a:r>
            <a:r>
              <a:rPr b="0" lang="en-US" sz="1600" spc="-1" strike="noStrike" u="sng">
                <a:solidFill>
                  <a:srgbClr val="99ca3c"/>
                </a:solidFill>
                <a:uFillTx/>
                <a:latin typeface="Trebuchet MS"/>
                <a:hlinkClick r:id="rId1"/>
              </a:rPr>
              <a:t>10.1038/nclimate3361</a:t>
            </a:r>
            <a:r>
              <a:rPr b="0" lang="en-US" sz="1600" spc="-1" strike="noStrike">
                <a:solidFill>
                  <a:srgbClr val="404040"/>
                </a:solidFill>
                <a:latin typeface="Trebuchet MS"/>
              </a:rPr>
              <a:t>)</a:t>
            </a:r>
            <a:endParaRPr b="0" lang="en-US" sz="16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Increase in the frequency and intensity of extreme weather event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ea level rise threatening coastal areas (Karachi)</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Lethal combination of humidity and heat by late 21</a:t>
            </a:r>
            <a:r>
              <a:rPr b="0" lang="en-US" sz="1700" spc="-1" strike="noStrike" baseline="30000">
                <a:solidFill>
                  <a:srgbClr val="404040"/>
                </a:solidFill>
                <a:latin typeface="Trebuchet MS"/>
              </a:rPr>
              <a:t>st</a:t>
            </a:r>
            <a:r>
              <a:rPr b="0" lang="en-US" sz="1700" spc="-1" strike="noStrike">
                <a:solidFill>
                  <a:srgbClr val="404040"/>
                </a:solidFill>
                <a:latin typeface="Trebuchet MS"/>
              </a:rPr>
              <a:t> century in Indus river basin </a:t>
            </a:r>
            <a:r>
              <a:rPr b="0" lang="en-US" sz="1600" spc="-1" strike="noStrike">
                <a:solidFill>
                  <a:srgbClr val="404040"/>
                </a:solidFill>
                <a:latin typeface="Trebuchet MS"/>
              </a:rPr>
              <a:t>(Eun-Soon Im, Jeremy Paal, and Elfatir Eltahir, Deadly heat waves projected in the densely populated agricultural regions of South Asia, </a:t>
            </a:r>
            <a:r>
              <a:rPr b="0" i="1" lang="en-US" sz="1600" spc="-1" strike="noStrike">
                <a:solidFill>
                  <a:srgbClr val="404040"/>
                </a:solidFill>
                <a:latin typeface="Trebuchet MS"/>
              </a:rPr>
              <a:t>Science Advances</a:t>
            </a:r>
            <a:r>
              <a:rPr b="0" lang="en-US" sz="1600" spc="-1" strike="noStrike">
                <a:solidFill>
                  <a:srgbClr val="404040"/>
                </a:solidFill>
                <a:latin typeface="Trebuchet MS"/>
              </a:rPr>
              <a:t>, 02 August 2017, Vol. 3, No. 8)</a:t>
            </a:r>
            <a:endParaRPr b="0" lang="en-US" sz="16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404040"/>
                </a:solidFill>
                <a:latin typeface="Trebuchet MS"/>
              </a:rPr>
              <a:t>Yet Pakistan has significant diversity in ecosystems and degree of uncertainty with respect to climate impact details</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akistan: Some Environment Impacts</a:t>
            </a:r>
            <a:endParaRPr b="0" lang="en-US" sz="3600" spc="-1" strike="noStrike">
              <a:solidFill>
                <a:srgbClr val="90c226"/>
              </a:solidFill>
              <a:latin typeface="Trebuchet MS"/>
            </a:endParaRPr>
          </a:p>
        </p:txBody>
      </p:sp>
      <p:sp>
        <p:nvSpPr>
          <p:cNvPr id="223"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155,000 deaths attributable to indoor and outdoor air pollution alone in 2012 (WHO)</a:t>
            </a:r>
            <a:endParaRPr b="0" lang="en-US" sz="15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Trebuchet MS"/>
              </a:rPr>
              <a:t>Correlation between air pollutants and GHGs</a:t>
            </a:r>
            <a:endParaRPr b="0" lang="en-US" sz="14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Trebuchet MS"/>
              </a:rPr>
              <a:t>Overlap between air pollutants and GHGs (black carbon)</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Solid waste management challenges</a:t>
            </a:r>
            <a:endParaRPr b="0" lang="en-US" sz="15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Trebuchet MS"/>
              </a:rPr>
              <a:t>Landfill gas generation (which includes methane with 32 times global warming potential of CO2)</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39,000 children under five die every year from diarrhea caused by unsafe water and poor sanitation (UNDP)</a:t>
            </a:r>
            <a:endParaRPr b="0" lang="en-US" sz="15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Trebuchet MS"/>
              </a:rPr>
              <a:t>Diarrheal diseases projected to increase in a climate affected world (WB/Potsdam)</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Down from 5,000 m3/capita of water to 1,000 m3/capita today (UNDP) but yet  94% of freshwater withdrawal still used in agriculture (WB) </a:t>
            </a:r>
            <a:endParaRPr b="0" lang="en-US" sz="15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Very low forest cover (1.9% of land area) affects susceptibility to climate impacts</a:t>
            </a:r>
            <a:endParaRPr b="0" lang="en-US" sz="15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Direct and indirect cost of environmental degradation annually is 9% of GDP </a:t>
            </a:r>
            <a:r>
              <a:rPr b="0" lang="en-US" sz="1300" spc="-1" strike="noStrike">
                <a:solidFill>
                  <a:srgbClr val="404040"/>
                </a:solidFill>
                <a:latin typeface="Trebuchet MS"/>
              </a:rPr>
              <a:t>(2005 data, World Bank, 2008, </a:t>
            </a:r>
            <a:r>
              <a:rPr b="0" i="1" lang="en-US" sz="1300" spc="-1" strike="noStrike">
                <a:solidFill>
                  <a:srgbClr val="404040"/>
                </a:solidFill>
                <a:latin typeface="Trebuchet MS"/>
              </a:rPr>
              <a:t>Environmental Health and Child Survival: Epidemiology, Economics, Experiences</a:t>
            </a:r>
            <a:r>
              <a:rPr b="0" lang="en-US" sz="1300" spc="-1" strike="noStrike">
                <a:solidFill>
                  <a:srgbClr val="404040"/>
                </a:solidFill>
                <a:latin typeface="Trebuchet MS"/>
              </a:rPr>
              <a:t>, Washington DC.)</a:t>
            </a:r>
            <a:endParaRPr b="0" lang="en-US" sz="13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 menu of possible approaches</a:t>
            </a:r>
            <a:endParaRPr b="0" lang="en-US" sz="3600" spc="-1" strike="noStrike">
              <a:solidFill>
                <a:srgbClr val="90c226"/>
              </a:solidFill>
              <a:latin typeface="Trebuchet MS"/>
            </a:endParaRPr>
          </a:p>
        </p:txBody>
      </p:sp>
      <p:sp>
        <p:nvSpPr>
          <p:cNvPr id="225"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ackling climate resiliency head-on vs. the co-benefits approach</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NDC focus is on building resilience given low GHG emissions/capita</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Pure resiliency focus limits potential climate finance options to water management and efficiency/forestry and land use</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Including mitigation opens wider set of options. Also protects against being left behind on energy technology front. E.g. methane from landfills and SWM/black carbon and air quality/transport emissions and air quality</a:t>
            </a:r>
            <a:endParaRPr b="0" lang="en-US" sz="1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ject focus vs. empowering solutions</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Trebuchet MS"/>
              </a:rPr>
              <a:t>Where should government intervene? Incentives/knowledge support versus projects</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uilding climate resilience: process and prioritization</a:t>
            </a:r>
            <a:endParaRPr b="0" lang="en-US" sz="3600" spc="-1" strike="noStrike">
              <a:solidFill>
                <a:srgbClr val="90c226"/>
              </a:solidFill>
              <a:latin typeface="Trebuchet MS"/>
            </a:endParaRPr>
          </a:p>
        </p:txBody>
      </p:sp>
      <p:sp>
        <p:nvSpPr>
          <p:cNvPr id="227"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ere are we trying to g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at do we have alread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at is still miss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at is government’s rol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Where are we trying to go (goals)</a:t>
            </a:r>
            <a:endParaRPr b="0" lang="en-US" sz="3600" spc="-1" strike="noStrike">
              <a:solidFill>
                <a:srgbClr val="90c226"/>
              </a:solidFill>
              <a:latin typeface="Trebuchet MS"/>
            </a:endParaRPr>
          </a:p>
        </p:txBody>
      </p:sp>
      <p:sp>
        <p:nvSpPr>
          <p:cNvPr id="229" name=""/>
          <p:cNvSpPr txBox="1"/>
          <p:nvPr/>
        </p:nvSpPr>
        <p:spPr>
          <a:xfrm>
            <a:off x="677520" y="2160360"/>
            <a:ext cx="8596440" cy="3881160"/>
          </a:xfrm>
          <a:prstGeom prst="rect">
            <a:avLst/>
          </a:prstGeom>
          <a:noFill/>
          <a:ln w="0">
            <a:noFill/>
          </a:ln>
        </p:spPr>
        <p:txBody>
          <a:bodyPr anchor="t">
            <a:normAutofit/>
          </a:bodyPr>
          <a:p>
            <a:pPr lvl="1" marL="284040" indent="-284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ctive management of climate risks by government, private sector and personal levels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mate-integrated approaches to energy, agriculture, water and in cities, optimizing local co-benefi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bility of citizens to be more resilient to climate impacts (particularly the poo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courage continuous development of climate solutions amongst all stakeholders (youth, private sector, provi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4T06:02:14Z</dcterms:created>
  <dc:creator>Kulsum Ahmed</dc:creator>
  <dc:description/>
  <dc:language>en-US</dc:language>
  <cp:lastModifiedBy>admin</cp:lastModifiedBy>
  <dcterms:modified xsi:type="dcterms:W3CDTF">2018-02-28T08:54:54Z</dcterms:modified>
  <cp:revision>48</cp:revision>
  <dc:subject/>
  <dc:title>Pakistan: A Sustainable Future</dc:title>
</cp:coreProperties>
</file>